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E3B-B5E3-4005-AA5F-4F016BAF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D04-A95E-454A-8881-594CC1BB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AA62-567A-4C76-9C6C-BC5D4E87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FE8-1045-49F7-94B6-DE24F60F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D1C-9E49-4661-936C-B26C16B2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8EE-3DE9-4151-8E6F-98B606BF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3CF-81D0-4897-BCA2-B1793E95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4B7-02C8-4963-B214-157A3D14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D2B-F4E9-4502-A6EE-0A61DD51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191-D7FB-4A59-BD19-45C3988C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25C-35D9-4E8B-9976-DB0264CB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4CA-6DCD-46DF-AAB7-A935079C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137C-6E47-4447-B6AD-FAADFAC07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lack and White WSU Logo"/>
          <p:cNvPicPr/>
          <p:nvPr/>
        </p:nvPicPr>
        <p:blipFill>
          <a:blip r:embed="rId1"/>
          <a:stretch/>
        </p:blipFill>
        <p:spPr>
          <a:xfrm>
            <a:off x="5445000" y="298440"/>
            <a:ext cx="1154160" cy="91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2880" y="243000"/>
            <a:ext cx="373572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89604" dir="13500000" blurRad="0" rotWithShape="0">
                    <a:srgbClr val="ff0000"/>
                  </a:outerShdw>
                </a:effectLst>
                <a:latin typeface="Rockwell"/>
              </a:rPr>
              <a:t>BIOLOGY RESEARCH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89604" dir="13500000" blurRad="0" rotWithShape="0">
                  <a:srgbClr val="ff0000"/>
                </a:outerShdw>
              </a:effectLst>
              <a:latin typeface="Rockwell"/>
              <a:ea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89604" dir="13500000" blurRad="0" rotWithShape="0">
                    <a:srgbClr val="ff0000"/>
                  </a:outerShdw>
                </a:effectLst>
                <a:latin typeface="Rockwell"/>
              </a:rPr>
              <a:t>CLUB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89604" dir="13500000" blurRad="0" rotWithShape="0">
                  <a:srgbClr val="ff0000"/>
                </a:outerShdw>
              </a:effectLst>
              <a:latin typeface="Rockwell"/>
              <a:ea typeface="Rockwell"/>
            </a:endParaRPr>
          </a:p>
        </p:txBody>
      </p:sp>
      <p:sp>
        <p:nvSpPr>
          <p:cNvPr id="43" name=""/>
          <p:cNvSpPr txBox="1"/>
          <p:nvPr/>
        </p:nvSpPr>
        <p:spPr>
          <a:xfrm rot="5400000">
            <a:off x="-1791000" y="5313240"/>
            <a:ext cx="453708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73964" dir="19736436" blurRad="0" rotWithShape="0">
                    <a:srgbClr val="ff0000"/>
                  </a:outerShdw>
                </a:effectLst>
                <a:latin typeface="Rockwell"/>
              </a:rPr>
              <a:t>NORTH HIGH SCHOOL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73964" dir="19736436" blurRad="0" rotWithShape="0">
                  <a:srgbClr val="ff0000"/>
                </a:outerShdw>
              </a:effectLst>
              <a:latin typeface="Rockwell"/>
              <a:ea typeface="Rockwell"/>
            </a:endParaRPr>
          </a:p>
        </p:txBody>
      </p:sp>
      <p:pic>
        <p:nvPicPr>
          <p:cNvPr id="44" name="" descr="logo_300_RGB.jpg"/>
          <p:cNvPicPr/>
          <p:nvPr/>
        </p:nvPicPr>
        <p:blipFill>
          <a:blip r:embed="rId2"/>
          <a:stretch/>
        </p:blipFill>
        <p:spPr>
          <a:xfrm>
            <a:off x="5810400" y="8110440"/>
            <a:ext cx="885600" cy="787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Nhsin.jpg (31396 bytes)"/>
          <p:cNvPicPr/>
          <p:nvPr/>
        </p:nvPicPr>
        <p:blipFill>
          <a:blip r:embed="rId3"/>
          <a:stretch/>
        </p:blipFill>
        <p:spPr>
          <a:xfrm>
            <a:off x="225360" y="8121600"/>
            <a:ext cx="682560" cy="73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thumbnail of small NSF logo in color "/>
          <p:cNvPicPr/>
          <p:nvPr/>
        </p:nvPicPr>
        <p:blipFill>
          <a:blip r:embed="rId4"/>
          <a:stretch/>
        </p:blipFill>
        <p:spPr>
          <a:xfrm>
            <a:off x="195120" y="193680"/>
            <a:ext cx="927360" cy="909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6520" y="1808280"/>
            <a:ext cx="340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ARE YOU  A 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JUN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OR A</a:t>
            </a: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radley Hand ITC"/>
              </a:rPr>
              <a:t>SENIO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1436760"/>
            <a:ext cx="3025800" cy="1447560"/>
          </a:xfrm>
          <a:prstGeom prst="cloudCallout">
            <a:avLst>
              <a:gd name="adj1" fmla="val 91657"/>
              <a:gd name="adj2" fmla="val 16337"/>
            </a:avLst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3120" y="5896080"/>
            <a:ext cx="398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Thursday, September 2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Bookman Old Style"/>
              </a:rPr>
              <a:t>st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fter school at 3:2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t Mr. Ross’ classroo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F 3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6880" y="7007400"/>
            <a:ext cx="5991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PONS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s. Kelderman, Mr. Welch, and Mr. 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Science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Mrs. Ingrid Rocio Caton: irsantospinzon@wichita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Graduate Student,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200600">
            <a:off x="906120" y="5848200"/>
            <a:ext cx="14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163400">
            <a:off x="928800" y="5769000"/>
            <a:ext cx="1722240" cy="876240"/>
          </a:xfrm>
          <a:custGeom>
            <a:avLst/>
            <a:gdLst>
              <a:gd name="textAreaLeft" fmla="*/ 0 w 1722240"/>
              <a:gd name="textAreaRight" fmla="*/ 1722600 w 1722240"/>
              <a:gd name="textAreaTop" fmla="*/ 0 h 876240"/>
              <a:gd name="textAreaBottom" fmla="*/ 87660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632480" y="1440000"/>
            <a:ext cx="1404720" cy="1622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90640" y="3103560"/>
            <a:ext cx="57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eal college research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Build up your re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Travel opportunities to scientific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Link between high school-college-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roblem solv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Explore your own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Field 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98920" y="4827600"/>
            <a:ext cx="3911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Papyrus"/>
              </a:rPr>
              <a:t>SCIENCE IS FUN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Papyrus"/>
              </a:rPr>
              <a:t>COME AND JOIN THE 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1120" y="8515440"/>
            <a:ext cx="487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Wichita State University, Biology Department- NSF GK-12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Georgia"/>
              </a:rPr>
              <a:t>Pass Me The Salt / Pasame La S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07:32Z</dcterms:created>
  <dc:creator>Owner</dc:creator>
  <dc:description/>
  <dc:language>en-US</dc:language>
  <cp:lastModifiedBy>Marks Lab</cp:lastModifiedBy>
  <dcterms:modified xsi:type="dcterms:W3CDTF">2006-09-18T17:42:33Z</dcterms:modified>
  <cp:revision>16</cp:revision>
  <dc:subject/>
  <dc:title>Slide 1</dc:title>
</cp:coreProperties>
</file>